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BDF2-C3B6-4ED0-91B7-D2FA988C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bio2/notes_sexlinkag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wodocs.com/red-green-color-blind-tests/red-green-color-blindness-tes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Autosomal_Dominant_Pedigree_Chart2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faculty.southwest.tn.edu/rburkett/GB%20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napdragon flower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logyjunction.com/mendelian_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oannelovesscience.com/2009.12.06_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n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georgiasouthern.edu/bio-home/harvey/lect/lectures.html?flnm=gen2&amp;ttl=Sources%20of%20Variation:%20genes&amp;ccode=el&amp;mda=sc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mjmayhew42/Biology%20notes/multiple%20alleles%20not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APbiology/inheritance/11-5_beyond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nobelprize.org/nobel_prizes/medicine/articles/lewi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D3E-1CCE-40CE-A457-BD8370C3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18F-5724-490F-9098-F71BC478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692-2B12-4049-8A17-0E2D50C3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D41-DABF-41DB-A675-0C4E1A16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976-129F-47DF-A0DE-85E2BDA3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49C-DE8E-4533-81E1-FA73FAF9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2F3-435D-4924-AA04-5620CD25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8B8-1B65-41F0-B3EA-9B24FAC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9D1-2471-40E7-8A76-27C7256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B5C-EE93-4146-BF6A-B956DDF9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078-A024-4A97-9175-AFBCBA92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672-5847-4A60-9992-6F26926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439B-0AAE-4740-9CE4-C734EECF5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In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dominance 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11280"/>
            <a:ext cx="77724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 linkag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mal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ex-linked tra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ur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-pattern bal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38200" y="304920"/>
            <a:ext cx="6191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41320" y="1676520"/>
            <a:ext cx="5735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Practice questions on page 19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ts in Mendel’s pea plants exhibi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leles interact to produce a new phenotype;  this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ap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6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h alleles are expressed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224080"/>
            <a:ext cx="4495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7724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89280" y="609480"/>
            <a:ext cx="536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Morgan H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geneticist (1866-19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the fruit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86360" y="1981080"/>
            <a:ext cx="313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5:53Z</dcterms:created>
  <dc:creator>rubina khan</dc:creator>
  <dc:description/>
  <dc:language>en-US</dc:language>
  <cp:lastModifiedBy>rubina khan</cp:lastModifiedBy>
  <dcterms:modified xsi:type="dcterms:W3CDTF">2013-03-21T10:23:30Z</dcterms:modified>
  <cp:revision>72</cp:revision>
  <dc:subject/>
  <dc:title>Genetic Processes</dc:title>
</cp:coreProperties>
</file>